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69B4-B4DC-4544-9953-653AC842E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DE2C-F0D3-4B27-AE8F-06C994FB4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2AE8-4255-4954-8261-75EDB408A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531F-1A8E-42B7-8E2A-04DB2B39A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D94ED-5B58-4DFA-ABE1-1B6879786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5484B-C7DD-4F24-8584-AB4593C7B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76622-230F-4036-9353-E2A796DFC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8674F-88A7-4B01-9DD3-F12A8EE93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CC4C1-438B-4808-BF62-E71FF6407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BE590-965C-4625-95A2-0798BDBE5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108F4-5E63-46F9-96B7-C17DAFAA4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7A8D-EC64-420B-9B21-528075F3E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C0456-D1B0-4A55-BCFD-41831E232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F8C22-4943-4FC7-A675-9C2BD4F9F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CAAC2-C613-4768-AE9D-0C1DF930C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ADDF4-5A38-4B45-8465-BC251E02A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1B120-4D46-4607-97C6-E740DB6E8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440F-233D-4B50-909C-A8FD3EDE1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87E3-4220-47E7-B389-0FB76D1F3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48D7-FFC3-46EE-9EAF-0F2CD3C8E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3F78-2E7E-4F76-ACBA-876D7ECD4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C788-CD6F-412E-95B5-C12AF1D25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3A03-F066-4B4D-90FF-283F5F531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316C-7F38-4EAA-8598-85D708CB3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© 2008 by André-Netl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Group 35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59F5B-EE94-4207-9FEB-067726111DAB}" type="datetime"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" name="Picture 45" descr="Netline"/>
          <p:cNvPicPr/>
          <p:nvPr/>
        </p:nvPicPr>
        <p:blipFill>
          <a:blip r:embed="rId2"/>
          <a:stretch/>
        </p:blipFill>
        <p:spPr>
          <a:xfrm>
            <a:off x="7908840" y="6364440"/>
            <a:ext cx="1127160" cy="377640"/>
          </a:xfrm>
          <a:prstGeom prst="rect">
            <a:avLst/>
          </a:prstGeom>
          <a:ln w="0">
            <a:noFill/>
          </a:ln>
        </p:spPr>
      </p:pic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901920" y="-5256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8DF78-1528-4D1F-8F2F-3D19BD202902}" type="slidenum">
              <a:rPr b="0" lang="de-CH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2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3" name="Rectangle 2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6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Group 22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6" name="Rectangle 7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Rectangle 16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6" name="Picture 28" descr="Netline"/>
          <p:cNvPicPr/>
          <p:nvPr/>
        </p:nvPicPr>
        <p:blipFill>
          <a:blip r:embed="rId2"/>
          <a:stretch/>
        </p:blipFill>
        <p:spPr>
          <a:xfrm>
            <a:off x="6948360" y="6066000"/>
            <a:ext cx="2124360" cy="711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753E7-C245-40B9-ABAD-E76AE9CDE876}" type="slidenum">
              <a:rPr b="0" lang="de-CH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5000" spc="-1" strike="noStrike">
                <a:solidFill>
                  <a:srgbClr val="ffffff"/>
                </a:solidFill>
                <a:latin typeface="Arial Narrow"/>
              </a:rPr>
              <a:t>GPS Logger Project </a:t>
            </a:r>
            <a:endParaRPr b="0" lang="en-US" sz="5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09" name="Picture 7" descr="asog_event_partner_RVB"/>
          <p:cNvPicPr/>
          <p:nvPr/>
        </p:nvPicPr>
        <p:blipFill>
          <a:blip r:embed="rId1"/>
          <a:stretch/>
        </p:blipFill>
        <p:spPr>
          <a:xfrm>
            <a:off x="5003640" y="5977080"/>
            <a:ext cx="183384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 2008 by André-Net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A545E-F9C8-429E-843F-C28D9C549267}" type="datetime3">
              <a:rPr b="0" lang="en-GB" sz="800" spc="-1" strike="noStrike">
                <a:solidFill>
                  <a:srgbClr val="000000"/>
                </a:solidFill>
                <a:latin typeface="Arial"/>
              </a:rPr>
              <a:t>31 July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Narrow"/>
              </a:rPr>
              <a:t>Why new GPS Loggers?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Most current loggers are in bad conditio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mprove ballooning competition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Virtual marker drop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ly On task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top / reduce discussions about accuracy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tate of the art GPS technology (SiRF III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ilot can view his logged posit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ogger interval 1sec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implify logger handling in scoring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 2008 by André-Net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8AE56-F6E7-445B-B74D-51938521CE6D}" type="datetime3">
              <a:rPr b="0" lang="en-GB" sz="800" spc="-1" strike="noStrike">
                <a:solidFill>
                  <a:srgbClr val="000000"/>
                </a:solidFill>
                <a:latin typeface="Arial"/>
              </a:rPr>
              <a:t>31 July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Narrow"/>
              </a:rPr>
              <a:t>Key features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isplay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to view scored position (in UTM or Long/Lat) and altitude (in feet or meters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Keypad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to enter Fly On goals or drop marker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USB-Port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to use logger as navigation device for the pilot’s laptop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D-Card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to store the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igitally signed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track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rial output for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telemetry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(live tracking/scoring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iRF III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GPS technology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 2008 by André-Net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436CA-566F-4B1A-9164-E1D7F5DECF17}" type="datetime3">
              <a:rPr b="0" lang="en-GB" sz="800" spc="-1" strike="noStrike">
                <a:solidFill>
                  <a:srgbClr val="000000"/>
                </a:solidFill>
                <a:latin typeface="Arial"/>
              </a:rPr>
              <a:t>31 July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Narrow"/>
              </a:rPr>
              <a:t>Prototype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21" name="Picture 7" descr="Extracted2"/>
          <p:cNvPicPr/>
          <p:nvPr/>
        </p:nvPicPr>
        <p:blipFill>
          <a:blip r:embed="rId1"/>
          <a:stretch/>
        </p:blipFill>
        <p:spPr>
          <a:xfrm>
            <a:off x="611280" y="1989000"/>
            <a:ext cx="3633840" cy="3886200"/>
          </a:xfrm>
          <a:prstGeom prst="rect">
            <a:avLst/>
          </a:prstGeom>
          <a:ln w="0">
            <a:noFill/>
          </a:ln>
        </p:spPr>
      </p:pic>
      <p:sp>
        <p:nvSpPr>
          <p:cNvPr id="122" name="Line 10"/>
          <p:cNvSpPr/>
          <p:nvPr/>
        </p:nvSpPr>
        <p:spPr>
          <a:xfrm flipH="1">
            <a:off x="2843280" y="1268280"/>
            <a:ext cx="2016000" cy="792360"/>
          </a:xfrm>
          <a:prstGeom prst="line">
            <a:avLst/>
          </a:prstGeom>
          <a:ln w="12600">
            <a:solidFill>
              <a:srgbClr val="00007d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1"/>
          <p:cNvSpPr/>
          <p:nvPr/>
        </p:nvSpPr>
        <p:spPr>
          <a:xfrm flipH="1">
            <a:off x="1403280" y="1844640"/>
            <a:ext cx="3456000" cy="1655640"/>
          </a:xfrm>
          <a:prstGeom prst="line">
            <a:avLst/>
          </a:prstGeom>
          <a:ln w="12600">
            <a:solidFill>
              <a:srgbClr val="00007d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>
            <a:off x="2556000" y="2421000"/>
            <a:ext cx="2303280" cy="1152360"/>
          </a:xfrm>
          <a:prstGeom prst="line">
            <a:avLst/>
          </a:prstGeom>
          <a:ln w="12600">
            <a:solidFill>
              <a:srgbClr val="00007d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H="1">
            <a:off x="2484000" y="3573360"/>
            <a:ext cx="2374920" cy="1511280"/>
          </a:xfrm>
          <a:prstGeom prst="line">
            <a:avLst/>
          </a:prstGeom>
          <a:ln w="12600">
            <a:solidFill>
              <a:srgbClr val="00007d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5"/>
          <p:cNvSpPr/>
          <p:nvPr/>
        </p:nvSpPr>
        <p:spPr>
          <a:xfrm flipH="1">
            <a:off x="2050560" y="2997360"/>
            <a:ext cx="2808360" cy="1152360"/>
          </a:xfrm>
          <a:prstGeom prst="line">
            <a:avLst/>
          </a:prstGeom>
          <a:ln w="12600">
            <a:solidFill>
              <a:srgbClr val="00007d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6"/>
          <p:cNvSpPr/>
          <p:nvPr/>
        </p:nvSpPr>
        <p:spPr>
          <a:xfrm flipH="1">
            <a:off x="4140000" y="4149720"/>
            <a:ext cx="718920" cy="792000"/>
          </a:xfrm>
          <a:prstGeom prst="line">
            <a:avLst/>
          </a:prstGeom>
          <a:ln w="12600">
            <a:solidFill>
              <a:srgbClr val="00007d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7"/>
          <p:cNvSpPr/>
          <p:nvPr/>
        </p:nvSpPr>
        <p:spPr>
          <a:xfrm>
            <a:off x="4860720" y="105264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SiRF III GPS Mo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8"/>
          <p:cNvSpPr/>
          <p:nvPr/>
        </p:nvSpPr>
        <p:spPr>
          <a:xfrm>
            <a:off x="4861800" y="1628640"/>
            <a:ext cx="14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SD-Card sl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0"/>
          <p:cNvSpPr/>
          <p:nvPr/>
        </p:nvSpPr>
        <p:spPr>
          <a:xfrm>
            <a:off x="4863240" y="2205000"/>
            <a:ext cx="16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4-lines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1"/>
          <p:cNvSpPr/>
          <p:nvPr/>
        </p:nvSpPr>
        <p:spPr>
          <a:xfrm>
            <a:off x="4863240" y="2781360"/>
            <a:ext cx="246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AVR32 Micro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22"/>
          <p:cNvSpPr/>
          <p:nvPr/>
        </p:nvSpPr>
        <p:spPr>
          <a:xfrm>
            <a:off x="4861080" y="3357720"/>
            <a:ext cx="90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Bat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3"/>
          <p:cNvSpPr/>
          <p:nvPr/>
        </p:nvSpPr>
        <p:spPr>
          <a:xfrm>
            <a:off x="4862160" y="3933720"/>
            <a:ext cx="9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Keyp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24" descr="Extracted"/>
          <p:cNvPicPr/>
          <p:nvPr/>
        </p:nvPicPr>
        <p:blipFill>
          <a:blip r:embed="rId2"/>
          <a:stretch/>
        </p:blipFill>
        <p:spPr>
          <a:xfrm>
            <a:off x="6772320" y="3284640"/>
            <a:ext cx="2044800" cy="25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 2008 by André-Net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Date Placeholder 6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CB8AB-A611-424A-8F14-C4ABBD43C1A8}" type="datetime3">
              <a:rPr b="0" lang="en-GB" sz="800" spc="-1" strike="noStrike">
                <a:solidFill>
                  <a:srgbClr val="000000"/>
                </a:solidFill>
                <a:latin typeface="Arial"/>
              </a:rPr>
              <a:t>31 July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Narrow"/>
              </a:rPr>
              <a:t>Progress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iscussions at CIA Conference 2007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ots of talks in summer 2007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ystem desig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rototype developmen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ested different GPS receivers (approx. 20 flights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GPS logger repor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ooking for a production partne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39" name="Picture 7" descr="IMG_0805"/>
          <p:cNvPicPr/>
          <p:nvPr/>
        </p:nvPicPr>
        <p:blipFill>
          <a:blip r:embed="rId1"/>
          <a:stretch/>
        </p:blipFill>
        <p:spPr>
          <a:xfrm>
            <a:off x="5003640" y="4005360"/>
            <a:ext cx="3265560" cy="21762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1" descr="IMG_0726"/>
          <p:cNvPicPr/>
          <p:nvPr/>
        </p:nvPicPr>
        <p:blipFill>
          <a:blip r:embed="rId2"/>
          <a:stretch/>
        </p:blipFill>
        <p:spPr>
          <a:xfrm>
            <a:off x="5364000" y="692280"/>
            <a:ext cx="252900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 2008 by André-Net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15B85-BCF5-4632-AD50-45C0A18791B1}" type="datetime3">
              <a:rPr b="0" lang="en-GB" sz="800" spc="-1" strike="noStrike">
                <a:solidFill>
                  <a:srgbClr val="000000"/>
                </a:solidFill>
                <a:latin typeface="Arial"/>
              </a:rPr>
              <a:t>31 July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Narrow"/>
              </a:rPr>
              <a:t>Cost / Production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Arial Narrow"/>
              </a:rPr>
              <a:t>Production partner not yet defined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Arial Narrow"/>
              </a:rPr>
              <a:t>Cost per device estimation: 600 - 1000 €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Arial Narrow"/>
              </a:rPr>
              <a:t>Build at least 100 devices as soon as possibl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 2008 by André-Net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9462F-86AA-4E6E-8B14-DC5C756F3975}" type="datetime3">
              <a:rPr b="0" lang="en-GB" sz="800" spc="-1" strike="noStrike">
                <a:solidFill>
                  <a:srgbClr val="000000"/>
                </a:solidFill>
                <a:latin typeface="Arial"/>
              </a:rPr>
              <a:t>31 July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Narrow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Decide on financing model / find investor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Build a second prototype based on custom electronics and chassis until Jun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est in several event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Production of series zero after summer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More units available by summer 2009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imetable is depends on financing solution!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5000" spc="-1" strike="noStrike">
                <a:solidFill>
                  <a:srgbClr val="ffffff"/>
                </a:solidFill>
                <a:latin typeface="Arial Narrow"/>
              </a:rPr>
              <a:t>Backup</a:t>
            </a:r>
            <a:endParaRPr b="0" lang="en-US" sz="5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 2008 by André-Net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9E11A-4F01-485A-9286-7A8BB8BC0718}" type="datetime3">
              <a:rPr b="0" lang="en-GB" sz="800" spc="-1" strike="noStrike">
                <a:solidFill>
                  <a:srgbClr val="000000"/>
                </a:solidFill>
                <a:latin typeface="Arial"/>
              </a:rPr>
              <a:t>31 July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Narrow"/>
              </a:rPr>
              <a:t>About André-Netline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Lukas André, MSc BA Uni Bern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Marc André, MSc ETH E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André-Netline has been developing custom software for more than 10 year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Experienced in ballooning competition as team member and scoring officials (national and international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5T13:07:08Z</dcterms:created>
  <dc:creator>Lukas André</dc:creator>
  <dc:description/>
  <dc:language>en-US</dc:language>
  <cp:lastModifiedBy>Claude Weber</cp:lastModifiedBy>
  <dcterms:modified xsi:type="dcterms:W3CDTF">2008-03-07T10:58:15Z</dcterms:modified>
  <cp:revision>60</cp:revision>
  <dc:subject/>
  <dc:title>In and ou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